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9EC-2A0E-4E11-B11C-FB8996BC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467-56A9-4000-96C6-F11EB75E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7F73E-A690-411C-8EA8-F4538A5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F6484-876A-4CD9-B3D8-8D1CEF79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9D964-DAE1-4BD6-909E-4CE805AD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6367-7BF0-4C27-A42F-56DB874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3DFB5-1726-405B-A47B-5EDD838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8A2F9-F210-4354-9E1D-74B1B5B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F3378-C189-4CFC-8F67-5516738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DBE4E-25BC-4333-94ED-AFA190A0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85AB7-F0A9-4666-B244-0E34121F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E03B3-1D8C-4A3A-9752-70E7B8B6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327-184F-4529-A28E-A52D96D0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339CB-C41B-41F7-ACC7-88847E39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22DF6-2333-4D9C-B9A8-BA0FEE46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7B368-BDAF-4652-AC31-BE07932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DC3A7-06FF-4E96-831A-92C7CB2A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497FB-7319-4873-A253-FA142692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F7EFA-E86C-4C4D-857A-73F499C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8F4BA-E1AB-4140-93FA-47A6844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7AD60-AADE-4986-A35B-71D0574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38E3F-AB1C-46D0-AF9C-7C1271CF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4FA7D-E6E3-4EB0-99C9-5DA3812AD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ABB-7079-4509-A072-45703D53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D9928-CCE8-4BD8-8C4E-290DA292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EE439-89E7-4CB4-B6D8-3915234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A83EF-4808-4B37-8F16-6FC685E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48CC4-EE13-4DA7-85CE-F1226E6E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58C61-977C-42DB-8407-AAB17E4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09C75-D41D-42D5-AB1F-284BABBA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095B9-3470-4FFF-A02B-3D19601A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2872D-6B52-4DBA-AEFC-5610B415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6E6D-D07F-4CEA-BA73-9ACFD043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C9C65-86CA-4243-8E42-49F46B0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751E-71FF-4924-8C73-E649D4D8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D2CC8-2E67-4B08-BCAC-23B1C92D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F6FB3-C644-4E38-80D9-57938D2B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EB7AC-37D1-4754-907D-36365EC9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2D682-37A8-4807-94B4-295B9CB3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29C7B-8DEE-423A-B440-02B13E85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20066-E6FD-4610-B108-65ABE397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5B59F-2595-4299-97AD-C17D2422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A96C7-2E28-463A-B969-3161F4D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990F3-B5D5-46E2-803D-6FA22B95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E6821-F3E4-4BF4-9FAE-36BB94A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C636-3DC6-4414-AF5B-CCF786A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03EC9-EC39-40AB-BFC0-4F86785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7B87A-58EB-402B-8D76-74BABEA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D3E24-3FBD-4DDE-A2B6-BA0B7D81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C1E5C-3ACE-467A-B15E-E705299F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B5235-1048-4A94-8673-20940D46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B7AB0-AA27-4E49-81BF-8641117A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0B94E-1C64-4BB8-BD55-A996893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F2A81-B751-4C3E-A4F1-B38B269A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E428E-937F-485D-AA83-AD82CE42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482BC-C4B5-4F35-A351-9D6B5CB9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BF91-2945-42E7-964C-BCD72DBE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AEFA8-2C24-4D08-8794-05461B97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D4B46-F4FE-441D-96A8-8E545D6A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791E-B11A-4BC4-9442-8A78CC6B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575F0-92F8-430E-97F4-6C2D0BA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57FA6-10F1-44FA-903C-FB131FE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A7B41-068A-4145-8EF2-48384967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E795B-BBAA-4F69-AB17-2219C896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354387-B0D1-4CA3-84CB-F00A57BD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6F9C0-6C2E-4D80-BF55-D0ACCD0D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3CF63-EA61-4563-B0F1-AEC70401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487D-8879-4594-B31C-A293C537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D8721-3799-4237-9F5F-5C004F67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C434F-1EE7-4822-8762-10E0BB6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C4EC1-6505-4913-920B-0FED85BD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670F1-C52F-4007-A9AD-E635870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5FBE3-7D6A-4364-B224-0EF2D9A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6DE01-21F5-4533-800D-4773B34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F2D70-5704-4A5B-BFD3-F0D99758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8C598-CAE3-4854-8368-AD8CFF4A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F3C63-98B8-48AC-9CDB-6CB4396A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2E1CC-F389-4CF2-A66D-D0719B59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FAF4-A10D-4A74-86F3-E1D1FC1A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F004F-53FA-4B58-8E8C-BE399334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3FC2E-D95A-4246-B5ED-7BE04DCC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E7203-EDF1-4739-9390-B8A2833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09889-119E-409D-83DA-7517F425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857AF-97E6-4698-A452-4AB6B04E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E106A-99F9-477E-B948-9D3DDD6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9F662-7267-4792-981B-7EEE620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6E2FA-54B7-4BA6-8E22-396CB3F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301C2-6A07-4B1F-903D-DF077AE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54CB17-1550-4A8C-907B-F2C04F1B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F47-590B-4320-9E8F-CE5D2294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CA3A8-1F89-4CC9-BEF0-0F5FBAE5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7F296-018A-43C8-B786-432346E6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FAC3E-4230-45D0-B6F8-2D1E71D2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E2D02-60C8-4ACC-9DC3-3F63F8A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EBB0A-C873-4475-B125-079A0AD4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7F1B70-2206-4A90-9028-2CD8052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78220-DF54-44AA-9ED3-2EA245F4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D15A1B-34DE-409F-B0E8-B3C15632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37B56-7AE7-4BC7-B09F-1BA8BD3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9B633A-A3EE-42BC-84C0-FDCF888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C65-4FDE-4513-A8B7-8F1302B4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5960D-75C3-4D47-93F1-D56C798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506117-5C2D-4CC1-B153-1C1352D5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5D98E-1FD3-48A4-A4FF-352C3F20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93180-9563-4642-BBAB-3C2AA28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A06FE-C65D-42C1-9D58-48623F0D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355C2-ABCF-4761-9382-E578D562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E87F42-1630-4DD5-BEB7-92252A6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6CAC6-B190-4AAD-8156-2D95AD0A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BBD3D-5E7C-43AD-8327-9DA173E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7A717-1C0E-4204-BC0F-CCD55CF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47F-5B4F-4B85-952D-0322648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40F1-C328-4B4E-BAD2-BB916345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63D34-4D48-490D-BC24-4792061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FA2AE-DB07-4E6C-AAA0-60DB6BA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45D62-5592-4912-9609-10867FB0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8326D-4A2B-4021-84B3-9BD2EC75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4648E-166B-430A-83ED-6B864E9C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138BF-9EB0-4F61-8FA3-282A160F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222D4-FFC2-403E-AEDA-16DE9B5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2E5C2-7E0C-4BA7-9324-B9582C9F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AD10C-6F23-4E1B-B3C5-AD2668C2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A2E65-0F70-4F62-8E05-954D622F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27C7-3F41-41C4-AE86-E11380E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47565-C483-419D-BD89-335D4812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BE4F3-B663-4BC6-88E6-054A6B1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055F5-F2D8-4FE9-B7F1-9E02AC57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C6AEC-61C4-4D5A-91AA-5373A722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40E3A-8DAC-4CF9-8347-BB9EC83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021BD-7938-4CE5-8EEF-BA989F0C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C02EC-04C5-4532-B600-77978272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79A5D-D3A0-4A12-9B1B-763352E1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09DF1-C7B8-47E8-99F1-F1EE1282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9A8A0-1A4F-45A0-B792-E66CC18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6DB5-CFA9-4469-8B6F-F7F899D9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772B6-D7B8-4C8F-9B3E-B62D8110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5BCDC-34D0-49A1-9F1E-CDC06DC5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CA251A-C84B-4CB4-93D2-689F0015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B1892-D021-44BA-883B-776C11B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C3325-83D9-4605-9ED7-ADAB3417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A5CAD-8D97-4B76-AFA0-34E3DBB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A0D250-1F53-4F0B-BEC5-0509529C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AE7EE-889A-4B89-A472-55DE9E40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9FE1D5-699C-4E8B-80BF-1A4E1072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6F985-3C87-4870-B603-DC6E680E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3E59-F234-4319-B208-57B77317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4E216-B64B-4CFD-9188-A6363DD6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673299-4A3D-4CDB-BE7F-045DC2CF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0D1DB-3392-4030-BF9E-EB7D64A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2A18D-FF0F-4080-8C57-88DCA215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A576D-05F0-4577-BD1C-99AFEAE2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C9687-F117-4818-92CE-8ACC9FF4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7F98C-012E-4039-9D3E-7518FA51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FCEEA9-52C5-4C62-9EE0-4AEB9F35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14EE2-3159-4ADF-BC46-DB39CB2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7E4D9B-3580-43D3-A236-BF62B05B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D6B5-F5C2-4CCB-AF24-201FFDBD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F4AB7-9008-4A3E-B77B-6719D66E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2135C1-6EC1-4012-BA6E-B13E4122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A1AF6B-C6B8-4BEF-9A99-4681FE46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38FBA-329C-4DD9-912D-4A4C06C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9AB50-868A-4ADF-9723-FA4D4B6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634ED3-830E-4910-8E94-0B76D398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144BF6-52D8-430A-9BB5-066A4D52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BB074-6FEC-4C99-B014-34D6BFC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588C0E-2166-4075-83EB-131FF41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08228-16AF-4747-ADE1-E8B7D072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7D0A-2D9A-451F-AE2E-53C8D554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515BA-F5C4-468A-BDFA-1003D7F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DD73B-F56A-4363-927A-9A65CD1E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1B18F3-11D6-4823-90DF-81A642A6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EAFBCF-8F4A-4E51-B6DB-5D959630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F794C-3189-4EDD-A9B5-6E27A669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B7EC1-8768-46B8-9039-7107A976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C8DD9A-341D-43DA-9D2A-5C911FF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C5F81C-1D1E-4F00-BF48-5A8EC8A0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3BAA8-4560-40CE-800E-31E35FA6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061021-9A38-410A-A0C1-E3E0EE70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A256-A3CF-4C2F-8974-84659075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B6096-18B8-44C3-9566-108C155F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A7237-5B09-456A-94F1-85EA150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731DA2-C50A-4A88-B5CD-AD75722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EE15E9-3167-4116-989B-40D2C21D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827827-5CD1-44DB-B6C3-D8B312A3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1A14B4-AE6B-4EED-9235-73D5F049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A46CA2-F208-4056-98FA-458D523B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AB576-AB5E-4473-8060-5EA8285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1584FD-11E0-49DA-9503-F191695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166CEC-8B32-4C8C-A192-AE1E5CCC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F805E-A132-4551-BB57-2B9E3298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96FFF2-9348-4384-9DEC-88A5A1F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41BF4B-12B5-462A-A067-0BD4C67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60800-342A-4742-9A1E-D36BA15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71018-03C5-4758-89FA-D41F56B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570DD-10AE-4C50-8AA5-70BBBB78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219B4-17C2-427E-87B7-8A8CEB45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840786-17BE-4F30-BA24-293054F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3FC3-020B-44C2-9A8B-1446540C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81CC-BEB7-415A-8D32-04146BF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8D4-C1D2-4380-AE7D-1F824EB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7BDD-1260-4AE8-B2B5-E9D3A773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10B8D-AB88-4649-9332-434B733E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6F750-9E78-4E7B-B953-3864E8C8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EBA2-AD75-4679-9ED2-AA8E3141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3CBC-D8F4-4D34-8467-A4E7580F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25D5B-6E6F-475C-B94B-921F9A3E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8610-D360-4425-AA86-98B46010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CA8A-469E-4B1C-B5FC-FF4C485E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D132-2233-4976-834F-3E24F1AC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34C77-84AC-47FF-AA53-E3B3A4A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72B-906E-4B5D-BFA2-365C94E2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48A9E-0893-4B3F-8DE3-4532F1E1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DD5A-7917-4832-873D-D0A5BDA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998D-CC36-411C-8459-A827D35F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2D2F-2300-4843-926A-813E9560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9193-5B12-47A9-AA27-5FE87AA5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D0A26-9154-41AC-B07E-0FC244A7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2B6C-60EF-4B2A-B546-B6664B9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4031-1319-411C-8503-3A2369BA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DBF95-1011-4E98-A80F-49504B87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3079A-8009-43E7-886B-2096D823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8E1-A3A9-4EF6-99D0-8BB26F49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87F49-DB10-47D6-9755-21FB1566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87B1-D151-4421-81D4-43AC54CD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7198B-92D8-4880-9C41-C5F414A8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87FD7-6BF3-4501-B443-83F0E5EE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5791-74C0-4A3E-9588-1B764491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B2511-0DCE-4A0A-AC33-5CCEF48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3744-6152-433F-BC55-EAADBC32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AF2D2-66F6-4C24-B76E-1E8A3120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64DE-1207-424F-9330-3162529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55C7-2C04-4273-8F8F-6C067282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A63-30E8-4CCF-B7EE-CD7059BD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9FE7-D745-4683-B3AB-D7B51C0F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6E15E-478B-4DAA-A2AD-8C66F0B8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8F4B5-94E4-47AE-ADD7-C2982109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D26A-450C-4D86-BA77-4A5A051A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17098-7B5E-4A6F-A09D-5451CC3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3F542-CBB8-45FE-B6E8-903E8E05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F9C99-2289-46A1-9306-15E1C149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0A54A-861F-40E5-9A53-98107D2D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0BA17-5D6D-4CC3-95F1-FDE1580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86E0C-38CD-4D1B-AC53-F2665C16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1D7-70B8-4DA1-B66F-76EFEB1D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B27A-22B3-4DA6-B5C6-3E2B50EB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90975-0760-4001-BD75-E177662B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B8F0-A02A-4DBD-930D-AA3F87D1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F8F4-C1B6-4C5B-B98F-1E838711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5A210-E3B9-4631-A49D-ECB2557C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FEF0B-2BBB-4EBB-8063-8994508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B677F-5249-44D3-B0A1-7EA0D4E1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18FA8-5EAF-4A45-8D15-0C116F49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75B9-1921-4487-90BF-989358B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FED4-AA6F-4211-A3DA-37D0790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49C-C637-475F-8BB4-ED3F590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F0E09-F2F1-4B3E-A73F-95FE378B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4E0B1-6368-4038-AAE8-7A0275D9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4EF7-8551-48F2-A567-64D6334D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BFFF-0B05-49DF-8D07-00485F7B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87B9-C495-426D-B4B3-6D6DDAC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3638C-0F55-4DF9-9281-1154CF15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495B5-6ED8-4E87-9305-3C8D0733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1FA1-90B7-4C3E-B7F3-674A07FC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C5D3-04E2-40EE-93D1-565B1ECC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FC7B4-5133-4D05-8E61-C67E02F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C3A-8EA9-4198-89F8-A1D7AC75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78835-0412-4AD3-9688-3790D47E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97AFB-CC8A-4148-BCBF-D5BFBA7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5BECE-A959-46E9-B36A-33DBBC8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088C-D3C6-4FB6-91EE-F9E7076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ED10-BC4A-4E1E-BBCB-2BBE1A0D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CB930-2471-4E2A-8840-32401777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B5DE-4C46-4340-B6D2-A0CFBB3E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3656F-4F7B-47C4-A9AF-81C4161D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83341-288D-4FA4-832F-77210894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E0A49-5B96-4D94-A604-6B2D112D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F200-0B38-40E7-9847-9457F5FEEC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6C3-8620-4387-B313-E4FFD4D3D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DA2C-2AC8-4E5E-AD4E-63029B750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CC23-2623-41B9-859B-FFB29D406E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EAC-28E2-49AB-80A8-FBD1D1858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572A-F9EE-43BA-89DA-68610217D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940-E5A4-4270-865A-A66A53911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404-0E5A-4B0B-BB3F-97AAD7177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FDA3-074A-40DD-8AA9-5673F6611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C835-E207-4030-A4B0-F163FB7293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CC3A-7756-4B0E-97C4-BCCCF185A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D4E5-D7FE-47BF-BC69-A44A61A46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7FAE-4A18-4EC5-8A09-47CA600515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6537-260A-4689-9BB7-442A828BD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A2AD-B33C-4B16-8DB5-9FE16AF487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9EB-BDFF-4127-9372-E97783DE4F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25C-CB2E-4A1E-9D3A-BEF1978F28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95A2-AF5F-4CFB-9DB6-A24649B7E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0FDE-DF4D-4BF2-B9B6-7E3A6DF185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019C-2704-4B5F-8601-B6246AECC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858D-E8A5-45BD-B4F0-119613DD05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16C8-04B5-4FCD-91CA-DEC8612123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D78A-D66C-4ADF-B8A7-334CE938B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0A0B-B223-4291-9E5E-A7DDC1E9B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047-CA72-4561-9900-10D14AE2C5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37E5-3DD0-4785-B8C1-F723530631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930B-A396-4A86-B980-4082F88603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F47-8980-493D-A1DB-79B3EE917C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431B-4EC6-4E6A-B298-5847CB2366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55DB-ACF0-49D3-AB94-F69FEF5B5C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8137-08D2-4422-ADF8-2B5A555AC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4918-1913-4536-9613-C200038FE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169-80E0-4A50-AEC3-0AECB3719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052-AB96-41AD-80CA-DA3E1B572E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2467-45D5-46C6-B2BA-A949FD0B2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7F54-33AB-4040-AE3A-DC1CB35203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2DA1-AAF5-48A9-A46B-0EFF879CA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4434-432A-45E7-87F0-EC46945A6E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31F6-267E-48F6-A7DD-C2848728F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E69-A6BA-484A-BED9-98E143EBEE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EE6-FDE5-4BE6-978F-03A31246E6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37B0-AFAC-4C6C-AC4A-8DE7E5EB45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66840" y="1371600"/>
            <a:ext cx="4810320" cy="11714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255600" y="3703680"/>
            <a:ext cx="863280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1082520" y="701640"/>
            <a:ext cx="7209000" cy="60501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32720" y="306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6732720" y="4076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6732720" y="46530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6732720" y="5229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8"/>
          <a:stretch/>
        </p:blipFill>
        <p:spPr>
          <a:xfrm>
            <a:off x="6732720" y="56894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9"/>
          <a:stretch/>
        </p:blipFill>
        <p:spPr>
          <a:xfrm>
            <a:off x="6732720" y="626580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338040" y="1933560"/>
            <a:ext cx="8467920" cy="29908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793800" y="517680"/>
            <a:ext cx="6797520" cy="626112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547640" y="3227400"/>
            <a:ext cx="5472360" cy="6192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835280" y="4797360"/>
            <a:ext cx="5472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04840" y="1643040"/>
            <a:ext cx="8734320" cy="3571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2637000"/>
            <a:ext cx="5329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438120" y="800280"/>
            <a:ext cx="8267760" cy="525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6012000" y="28368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940360" y="5084640"/>
            <a:ext cx="223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523800" y="1995480"/>
            <a:ext cx="8096400" cy="2867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194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43080" y="792000"/>
            <a:ext cx="8458200" cy="5648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18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3059280" y="5157720"/>
            <a:ext cx="57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58770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30320" y="1590840"/>
            <a:ext cx="8883360" cy="191268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2" descr=""/>
          <p:cNvPicPr/>
          <p:nvPr/>
        </p:nvPicPr>
        <p:blipFill>
          <a:blip r:embed="rId2"/>
          <a:stretch/>
        </p:blipFill>
        <p:spPr>
          <a:xfrm>
            <a:off x="1370160" y="3940200"/>
            <a:ext cx="6829200" cy="22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33908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132000" y="26370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601200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940360" y="2579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8567640" y="2060640"/>
            <a:ext cx="3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8718480" y="2593800"/>
            <a:ext cx="3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9"/>
          <a:stretch/>
        </p:blipFill>
        <p:spPr>
          <a:xfrm>
            <a:off x="3492360" y="450864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0"/>
          <a:stretch/>
        </p:blipFill>
        <p:spPr>
          <a:xfrm>
            <a:off x="3492360" y="515772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11"/>
          <a:stretch/>
        </p:blipFill>
        <p:spPr>
          <a:xfrm>
            <a:off x="6732720" y="450864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2"/>
          <a:stretch/>
        </p:blipFill>
        <p:spPr>
          <a:xfrm>
            <a:off x="6732720" y="515772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8:2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